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832-4810-479F-BE08-7A2A7DE5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EF3-76D3-4808-988A-41BF5F76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5646D-98CD-4F70-B21E-BD2503F8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61A75-98F7-4827-A9AD-67F2DFA3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C93AF-0EB4-418A-A1F4-355AF604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D7C33-D7C5-4FAE-9882-F81FEF06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EE2A1-4267-4243-82B0-8033425C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108AD-9455-4F20-A10C-BA0E17A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5AC4E-D890-4ACA-97A9-580F23C5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EADEA-B428-4F49-BC59-4D599DE0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72817-5993-4642-B68A-2829D2D4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8F003-E420-423F-8B59-4527766F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F81-41E7-439F-AD2E-B8E17DD9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7E2B4-07C4-4120-86A1-AEEDE111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0BF22-DB81-4B31-BD79-5F847734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E9556-69AC-4BFD-A372-45A0A37C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AC039-093A-4A2E-AFD2-912200F9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6215F-AB9B-406F-917F-CCA6646A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3A5C2-B1BF-4FBC-9B3E-EAA95593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D367C-6C1E-49F6-BA13-09FF04AF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C7024-28B5-465F-9CAB-08CC041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74237-9379-43E0-ACB1-5AF01460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5F11C-6C4F-4DB8-8223-60A05417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E56-1569-4BDF-950A-7C664D2B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CCFD6-8A56-4A5F-9A7A-5112ECE8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62403-8E8D-4205-B3F3-C12B1C75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7EEF2-3123-45D6-89FB-4074A870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BB4DE-F762-47A4-A6C4-78302F13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8E2F1-AC3B-4B4A-8BE9-71202CAF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C30A6-7D38-4A46-8384-EFF1FE42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00FA7-064D-4A6F-BA7A-2A295D39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04C2B-D98C-4DE6-A91F-5BE0EA48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56578-285E-4161-815C-D0B5913F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CFFA1-260E-477B-84FB-403CC4A3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95C0-4CF3-4351-80AD-26DFEADD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76367-D9CC-48BF-90E8-5518E101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774B5-94CF-434E-953C-D26CE72C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6F98F-3056-48F1-AC0B-11D1CC14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8CA04-FD31-4A7A-B00E-0A88FAB5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5434B-9E01-4C7B-A70D-DC51D8EE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BEE2A-F8AC-4694-B806-4E1421CD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CF040-EBA3-4F5E-AE6D-40ACEE6A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323FB-0BA4-45EA-8E34-B805EC48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B0CE6-B89F-4E11-AFE2-AE525C47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BE14D-F759-4567-9C4F-24AB98A8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18ED-DA0E-44E8-B4DA-99F40162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552FB-5C10-4E97-ADB5-EFC14570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1774D-38CC-4AE2-80A5-8BF1F23D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E1DFE-E5A8-4BEF-B84B-89D915A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A3F2B-F6E5-4DF4-94F8-A4EEC987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BABE8-3D02-45AE-AF92-F074D330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9F7BF-309E-4A92-8E45-05755186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C28AC-8CB2-4F7B-9BF2-AB780428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D546E-8331-423B-8AD6-2859737F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FE978-26C2-46B6-B1FA-3EBB5B92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184F5-DAA3-486E-BF13-E215B078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F594-5D06-473B-BA6F-FCB556E4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8720C-0CF3-4F7E-BE56-30A66075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2DE07-157D-4838-8AA8-E86BE691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4B925-7F57-4B9B-819B-6EBD534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9DD56-6CA2-4AD6-B852-624641F5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1A04B-EB03-4B7C-BA06-CF8B162E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2B309-5C2E-4B6C-AE10-20050E35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EAEF3-4A8F-412D-8931-947F186A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C0E0C-2850-4F27-BE70-E23A57EA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8C930-0AA8-43AA-96B8-8686BD93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18255-4339-4E29-8E1D-315A616F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66C7-6318-45D7-AC52-B55286A9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14122-B91D-4B02-A98B-43EF10BE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D3E1C-20EB-429F-A206-C77BDB3E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17865-A435-4DFF-B5E7-C3345B1D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28367-F0AB-4F73-9DF6-C53B12D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4139A-EC11-470F-B755-37A9E499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71F85-238D-47B1-8FF5-7E5B9639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EBADF-AE88-48AE-B5A5-6804905F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D0D91-7422-4A3C-A8D4-7350A8DC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4ADB1-7E5B-42A6-B22C-9071A459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5C40A-8BBE-4812-91A7-EF7D6884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C863-03C3-4949-BBD4-74CE8139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546A3-D0B2-402A-BB74-6B1FCFE1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2C4FA-5C4C-4442-8E98-8C0ACC53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73EAE-7851-4898-98AA-39B1052B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14F87-ECFE-4A24-BE0B-733859A3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AA09E-35A9-491B-ABBE-BBA992D6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7369C-6213-4808-A8AF-47232BE2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5346F-2ECA-4DD6-9E46-9A2584FF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C0EC7-A9E6-4D49-ACE8-A78D40DA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F585F-8F6C-48F8-9DF8-EAE1A273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1F12C-DF46-4EE7-9C64-49815089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8A4F-8FF5-4988-B733-34D9BDF3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1EFDB-B38D-4B88-9399-B298B937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E2D12-894C-4380-93B1-12F0FB9E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79888-988D-4E1F-BD82-AEFACC78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074EB-97ED-4954-9F46-109E6230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B0D95-4614-4E23-A734-75796970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325D88-34A2-4081-8285-D212F26B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29778-F4BB-441B-9820-440990E0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28C940-E740-45A2-8A12-3B4D6598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B889DC-F288-4509-87CF-DF9F3084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32CA42-6209-4D76-BC55-56600097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E44E-73EF-444E-A667-41B2FED1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AE70F-94C6-4137-AFA9-FD3A367A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B3421-AE64-400C-9F22-4C9A4B46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2ED61-302C-4DDD-9849-31E3BBAB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4A65C-CA06-4DC2-A4C6-DF574314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6B65C-3B5B-4AEE-9B49-3B00C208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0BAA1-28D5-418A-82B6-2D6794C3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53FAA-11C7-4A23-BDA4-B72FD5F7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85965-F0F0-418A-BF84-4BE51C11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742C5-1A73-4E97-8687-49D8A1BA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1F6880-1010-488E-A6B4-DF0858D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C84-56DF-426F-9E56-CFAA7AE5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DB6E-35FC-41CB-907B-A9A9F417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9DA8D-AE97-42D6-A14E-1E331106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C8470-F9BC-4221-ADEC-E751B386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C9D5E-03F4-48EE-9FCC-F7121E36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EE65C-036F-45DC-8A60-E2724687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A5A1A-44EA-479F-BCFF-C7CDA8C8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4FD25-B215-4919-91BB-733468DD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B24C39-D1C4-4CC5-A822-AB928EE5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727C6E-44D6-4CDF-969D-3F57692B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18407-8C5C-442F-B022-2D53B4B2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8E7D7-0B81-407E-8A3A-B1DFD310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8613-F8A0-498D-892D-89645E93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BAD72-86C9-4205-8ACA-233E773F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AC219-CDAC-4441-A1A8-3DE1E485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17EFF-B48B-4284-9B33-D1056459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894F3-EE16-43D3-BD3E-75B42DC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483F1-362E-480C-BD51-1A43D9B8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B5E8DB-14ED-4278-AC59-0EECAE9E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9B44B-5DD4-4EEA-90FA-F3875241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EE0740-AEB7-4F0F-AFC3-E2063460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BB636-9048-4F19-BBB8-0CDAF22B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B08B4-98AB-47E0-9844-1DFF10B1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ABC7-D18D-4F64-A3C9-507B84AF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10692F-3FAD-42EF-9279-941106A9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7032E-19E5-47BF-A50D-5FA922D9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3150E-3325-4777-8420-DD8969D2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93BDA-438C-4E03-B2EE-11F5D938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A94A8-5AE6-4508-A17C-5D744EA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7E02BD-E6D4-45B9-B113-AC73F31B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59F6A-E287-4FC3-AC48-3C036E43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79D38-F71A-464C-943B-1E4B0B5C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4E9A5B-4CB1-4CE8-8095-5F1BFB8A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EAF47B-3709-48A8-B0B5-99CA7BC6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955F-939F-47DC-971B-3CE53875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1E171-C49C-4014-8AD2-9B72E6CB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22C4E-52ED-4FCD-ACFA-D41BB725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C711BC-DB64-4CC0-8B4F-7D55C29F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F76CF5-84D9-458F-9EF6-29107D34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D20EE-C329-4E09-A7FD-FB0B9BB9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D12703-A46F-4343-8D38-8DFC1845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A2B410-C615-44EC-A039-EA20E2CC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35A5F-A615-45B3-8214-42CB077B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C604C-9288-4915-A5B8-372FF4F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E60E4-FEB9-4D3A-BAB7-245DEE4C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6646-BEAA-4440-8B57-955B8AAD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0D292-3575-43ED-A18D-CA6B88B9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1DB821-1FEC-47AC-A5B5-F2F3B692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FB52F-705B-465E-B0B2-C51F5B98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37162C-8942-4B28-91A5-3F411CB4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07243-67C4-46C9-BC62-9DFEB3F5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D822B-ABFD-44A2-A6F6-370432F3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46075-759D-45CE-BEA8-4B148294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07B912-1896-4393-8668-5AB92D7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AF871B-C62D-4535-9179-0A2D195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56B04-811E-4DFC-BD2A-AA3BBF6B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8E39-9490-41A1-B388-A7E5F17B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E7282-D7ED-4366-979C-D59363F5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48616-1FBE-4134-B35A-26F61250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B87781-C76F-480E-BA88-AA89542C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8EA6-9064-4666-8216-AD9193FC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3763-D6DD-4CFC-BE82-F6E9BDE4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995E-E478-4287-A53C-067FCF36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146D-1E9B-4388-B904-4ABBC0D7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2E3-C607-4F2D-B985-E7AEA512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B6BF-AC85-47FF-96A7-2C79995A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D363-BFC2-40F4-8A07-91B37508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F80E-3F57-40A4-8E63-DCF67E01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7D86-93D0-4BFD-8481-C8BC0B71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9B56-99A8-4124-9774-2001CED5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B947-1C9E-463F-8D51-BE513F33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D974-E933-454C-9F1A-30D20BF9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2423-4779-42AB-A4D1-F5F744D8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23E6F-7DFB-4B62-BDF9-45E0E560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74B1-6309-4514-8209-D08E4A49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22E-AD51-4609-8B93-00D8932E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DD46-64DD-4FF0-A90B-E54E02AA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12CC-25C8-4CDF-8CB4-87082CD9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7F7E0-FBB7-4272-A2C1-EF70151E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E2B7A-A7A4-4254-95C7-21C9818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55F4-BA13-453B-80EF-BB4BDEB9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AC94-7D8B-49EB-8358-9BBEA0F1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1B8F5-69A5-49E7-81A2-C1F1A4DB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A17F-2999-4C4F-AE51-D8231436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1678-8D60-40A2-AC2D-ECF99D45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AD382-EFDA-4FAB-908D-06B77437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19C-D73D-4140-BA9B-C284BC2F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574B-681B-49B6-ADFA-36D525F9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6265-6172-4072-81A0-589EE761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7FFF4-93CA-4326-A91E-D2F4E40E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BE1D-0F5B-46AC-8D69-F08ACAFB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5A044-4F0A-4921-8E2F-E19E59E8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A8E57-6ADC-46D9-ABDF-244F1C18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4701-9C15-4719-ABE2-FB00E345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B42F4-5F0B-444B-81E3-F78FB348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9C737-A51C-4122-8200-32830207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892D-75FC-4FB5-BCDD-631B422A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116-B229-4919-8BA5-55A7C2F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C7087-1A0C-4FFD-B863-9F773516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1A8D6-485E-4DD8-A3D2-B1766D6A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C18E-E6E8-4DC0-A4DC-FED80E2F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F8431-2769-41E5-844D-DFBF93BE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732D3-BA0C-47A4-B7C1-D85FF1FE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BA6EA-4705-476A-B807-710D49DA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62360-FAA9-4D71-9878-567F1A4F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F9782-9660-47C9-952C-469884C5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14CAD-FB1F-45D2-84AE-768B80CB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EABFF-998E-476E-89C0-AFE9BA52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358-AA33-4F61-B1AD-B77CCC80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0552E-50DC-4BC9-8591-31384737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AA12D-A361-4661-95EF-A5300B35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E5B17-F5F4-45EF-9909-71EDAC62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25ABD-89E9-4350-88AC-F4EFADA5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6D8B-2B62-48A5-9198-FD9B337F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F8594-42A2-4066-ADFA-4F578204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65626-0B2C-41AE-9AC5-318093D9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21EEC-04C7-4909-8E7C-64B45DB6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BB4AF-4A8A-43A5-B279-149A6895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64F96-77D5-4303-AEB9-403C6AE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0CF-640B-42C8-AC65-E37692C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4235E-C6FF-4D64-B639-0EF41A99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7B7CF-C941-4F37-A3C8-C50502E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C104E-93A5-4869-A916-DBFF02AF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7C401-445F-4640-B96B-380A6580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8878C-0281-4CFB-BE12-F7DACD52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05D7B-0A66-4DC1-9E7C-0C3B0599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68373-D8EB-4774-B92A-8C965D9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80CF2-9C14-4A8C-A639-E3A6A2DC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90895-2067-45DE-A5B6-267F16D1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4570F-EF32-4204-9998-928C4315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BF7-6568-43A8-8567-0F340D9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0621E-27B2-411E-8F93-F760D4B8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8539D-35A4-47B2-BE7D-63D44C4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66C02-E890-4B4D-839C-143AFEA2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9380C-8246-4E6D-A3E4-89947999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0B57A-FBAA-4A83-9B90-DFE0B56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7CA64-62F5-4892-897A-B1293F8F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055DD-A58D-4CB6-83FB-EE0F7015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4B04E-5E7A-4652-B3B6-51824B43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E789A-E98C-424D-935F-E56C3CCC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29705-FF05-4428-A24E-C7542D28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3B18-D5FA-4589-9365-32A5A3FD2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F13A-563A-405C-9E07-457EA13098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88F9-46F0-46FB-92E2-6B2FC816C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0A6D-4EAF-4530-B126-2DE7E02BDE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F53D-8FAA-4C3B-8D60-0D562933C5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B6E5-DAD2-424F-8EDD-A73B581DC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F75A-BB09-4A55-A5CE-ADA1B3E9C9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D7F-4732-45B0-A445-D995A3487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EE22-A49A-4743-8F89-0C91EEA34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FD7F-E222-49EA-AA20-57268F19E6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4AAB-627A-4636-AEC6-38BB1E12D4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7EFC-FDF7-47DD-809A-98DD0DDA8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6FAB-D31D-4842-A969-FAA3C0969C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E159-9683-4FB6-AE59-FFA84E5808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B160-2B5E-42C4-BC6C-846CED13A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C6F3-5B44-4D8D-AF08-05EDF9D707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56EE-6431-45C2-A6FB-9902A5ACF8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6D8F-23E1-4376-8BDC-92DDA6158C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E5BE-050C-4570-BC53-924A1E5C8B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B6D9-5455-468E-BC8F-CDE392BE9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6395-1895-43A8-B0E5-BA43B81A2E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4DC9-8ED7-45F3-B27D-EA29EB0542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CC8A-3596-464F-A50F-A16FD58DDD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E745-6BBE-4B86-883F-9DBFBFDD73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BD05-2777-485B-B2D2-8FA86183A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170E-ACC4-4578-8110-3D1F57E52D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E318-CF4B-459A-9D37-2FF50671BA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8789-6370-4DA9-858C-C493566B2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2732-8A4A-4256-9687-607999B64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0B19-2E71-4841-B677-68CDF8A4F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DEE1-BEBE-45AD-941E-F7511C2B7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FB90-7FCF-42E6-B072-1805849F9A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7C91-4203-4855-ABD1-83B1C2270C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FC2B-5BDF-45D0-BAD3-D7A87DE6E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4C6F-832B-4F0C-BF0E-98761A5B69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9F5C-8E22-4FDC-AC59-C318AE4F8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6E96-31EF-4E78-B2B2-5BC35EEAF5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5786-F42F-498D-B354-BA7FDA3DE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02DC-9D71-484C-A9B7-E56616F5E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D2F0-4D35-41F4-B32A-8F5C06C04A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34920" y="3111480"/>
            <a:ext cx="90741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85680" y="861840"/>
            <a:ext cx="8972640" cy="51343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4572000" y="1757520"/>
            <a:ext cx="107964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1763640" y="3948120"/>
            <a:ext cx="151308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1619280" y="4653000"/>
            <a:ext cx="151272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100800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6877080" y="4681440"/>
            <a:ext cx="1008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447840" y="2305080"/>
            <a:ext cx="8248320" cy="22478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7164360" y="2319480"/>
            <a:ext cx="100800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1440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66600" y="1100160"/>
            <a:ext cx="9010800" cy="46576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7740720" y="2031840"/>
            <a:ext cx="1008000" cy="449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1187280" y="3068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7667640" y="3054240"/>
            <a:ext cx="1008000" cy="4492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6"/>
          <a:stretch/>
        </p:blipFill>
        <p:spPr>
          <a:xfrm>
            <a:off x="1116000" y="4076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7"/>
          <a:stretch/>
        </p:blipFill>
        <p:spPr>
          <a:xfrm>
            <a:off x="7740720" y="5200560"/>
            <a:ext cx="1008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图片 1" descr=""/>
          <p:cNvPicPr/>
          <p:nvPr/>
        </p:nvPicPr>
        <p:blipFill>
          <a:blip r:embed="rId1"/>
          <a:stretch/>
        </p:blipFill>
        <p:spPr>
          <a:xfrm>
            <a:off x="514440" y="2057400"/>
            <a:ext cx="8115120" cy="27432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7380360" y="2075040"/>
            <a:ext cx="1008000" cy="4489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4"/>
          <a:stretch/>
        </p:blipFill>
        <p:spPr>
          <a:xfrm>
            <a:off x="826920" y="30970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5"/>
          <a:stretch/>
        </p:blipFill>
        <p:spPr>
          <a:xfrm>
            <a:off x="6732720" y="4249800"/>
            <a:ext cx="201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8160" y="1257480"/>
            <a:ext cx="9067680" cy="4343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2205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1876320" y="1666800"/>
            <a:ext cx="5391360" cy="3524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433440" y="919080"/>
            <a:ext cx="8275680" cy="5019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414360" y="1947960"/>
            <a:ext cx="8313840" cy="29620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42840" y="1023840"/>
            <a:ext cx="9056880" cy="4810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116000" y="25797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187280" y="4292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378000" y="819000"/>
            <a:ext cx="8389800" cy="392436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2" descr=""/>
          <p:cNvPicPr/>
          <p:nvPr/>
        </p:nvPicPr>
        <p:blipFill>
          <a:blip r:embed="rId2"/>
          <a:stretch/>
        </p:blipFill>
        <p:spPr>
          <a:xfrm>
            <a:off x="404640" y="4743360"/>
            <a:ext cx="8332920" cy="19717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826920" y="3213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9360" y="1204920"/>
            <a:ext cx="9125280" cy="44481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2484360" y="2089080"/>
            <a:ext cx="129564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4140360" y="2838600"/>
            <a:ext cx="187164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2124000" y="35733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5"/>
          <a:stretch/>
        </p:blipFill>
        <p:spPr>
          <a:xfrm>
            <a:off x="3708360" y="4307040"/>
            <a:ext cx="1655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442800" y="2133720"/>
            <a:ext cx="8256600" cy="25905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3492360" y="208908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755640" y="280980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2843280" y="3544920"/>
            <a:ext cx="1657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9:42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